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4.png" ContentType="image/png"/>
  <Override PartName="/ppt/media/image13.png" ContentType="image/png"/>
  <Override PartName="/ppt/media/image5.png" ContentType="image/png"/>
  <Override PartName="/ppt/media/password.wav" ContentType="audio/x-wav"/>
  <Override PartName="/ppt/media/image10.png" ContentType="image/png"/>
  <Override PartName="/ppt/media/image2.jpeg" ContentType="image/jpeg"/>
  <Override PartName="/ppt/media/image9.png" ContentType="image/png"/>
  <Override PartName="/ppt/media/buzzer.wav" ContentType="audio/x-wav"/>
  <Override PartName="/ppt/media/image6.png" ContentType="image/png"/>
  <Override PartName="/ppt/media/image11.png" ContentType="image/png"/>
  <Override PartName="/ppt/media/image15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05DD-A57C-4A39-B33D-055DB03D9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718C-7C71-4339-BEB6-9E9F9A62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AC97-3C1B-4EC7-B97A-F5C9E1AB6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5943-2C44-4009-B66E-45159AD5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67D9-5B6E-4C78-98EF-E883591E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8328-1C15-4531-A5B9-87C5E593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B4D5-C84B-4C7B-BFE6-94ACBBF8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8DF0-44DD-4D8C-B086-AC854AB1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7DE1-45A1-4AFF-BC8B-1581CEE0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AE5F-1EBC-42F5-8FCD-E11A7457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2490-BECD-45A8-B3A1-E12226D2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993C-7E52-4448-8418-D3C84B41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F80A-66C3-4942-946C-F8FF7D553C8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4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password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00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Vocabulary Review Activ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6" descr="shh"/>
          <p:cNvPicPr/>
          <p:nvPr/>
        </p:nvPicPr>
        <p:blipFill>
          <a:blip r:embed="rId1"/>
          <a:stretch/>
        </p:blipFill>
        <p:spPr>
          <a:xfrm>
            <a:off x="3657600" y="4572000"/>
            <a:ext cx="2057400" cy="1863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password1"/>
          <p:cNvPicPr/>
          <p:nvPr/>
        </p:nvPicPr>
        <p:blipFill>
          <a:blip r:embed="rId2"/>
          <a:stretch/>
        </p:blipFill>
        <p:spPr>
          <a:xfrm>
            <a:off x="1447920" y="1905120"/>
            <a:ext cx="5981760" cy="1562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3" name="passwor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21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22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24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6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8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40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41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43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2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60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62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8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20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78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79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81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00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8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97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98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00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80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20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tup Directions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523520"/>
            <a:ext cx="7313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ype a vocabulary word on each of the following 10 slides in the subtitle textbox.  When complete, run the show by pressing F5 on the keyboar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ne student stands with back to this present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class gives the student clues to the vocabulary word onscreen as a clock keeps tim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student tries to guess the word before the buzz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6699"/>
                </a:solidFill>
                <a:latin typeface="Arial"/>
              </a:rPr>
              <a:t>Ready to play?</a:t>
            </a:r>
            <a:endParaRPr b="0" lang="en-US" sz="6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1" name="Picture 4" descr="password"/>
          <p:cNvPicPr/>
          <p:nvPr/>
        </p:nvPicPr>
        <p:blipFill>
          <a:blip r:embed="rId1"/>
          <a:stretch/>
        </p:blipFill>
        <p:spPr>
          <a:xfrm>
            <a:off x="2514600" y="2209680"/>
            <a:ext cx="441000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5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21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08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10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6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2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27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29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6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8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46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48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64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65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67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84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2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03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05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4T00:20:42Z</dcterms:created>
  <dc:creator>Connie Campbell</dc:creator>
  <dc:description/>
  <dc:language>en-US</dc:language>
  <cp:lastModifiedBy>SCS</cp:lastModifiedBy>
  <dcterms:modified xsi:type="dcterms:W3CDTF">2008-01-12T17:45:36Z</dcterms:modified>
  <cp:revision>8</cp:revision>
  <dc:subject/>
  <dc:title>Password</dc:title>
</cp:coreProperties>
</file>